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A2CF64-70C2-4557-940F-B66F8ACC98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52CC7A-282A-4C0E-A292-0CA4802B39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209971-DD18-4D6F-B394-5173040AB9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F6307-4320-4F77-8DAD-92ABE5A8A3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BD83CB-C08F-4B2E-A40C-AB42CE1D86F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7EB510-6594-41DE-BFDA-AD2E5E87690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222E5F-C12B-4EC4-8309-D080D053FD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9007F1-173E-441A-A79E-46FAF2A4C60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13C26A-5AA7-4D46-BC80-626CA9C36F0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BC113D-9A78-4B95-A9C8-3A0357D06C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DEB248-B8EC-400A-8449-B508E23D0E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5A18B1-6D9F-4951-BEA9-8AD5C7118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9DF8C7-B47E-4A41-98F4-ACE7E6E72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75A4A-85E6-4A3F-8121-7BCC4F8773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DBF3DC-A57C-40FE-8486-3D7A2CD35A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289F93-DB04-47B5-8C2E-10107ADF3D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8868D6-DD0B-49CF-BB7A-6B1A4DB776B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79BF83-D122-4213-AAE8-1DBDABC09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BC8E96-34CB-4B47-BD2A-D23809F68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A28A66-30B8-465A-8360-DBB5C6CB22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933E72-82CC-403B-B62A-D6C9BAB0E8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7E27E8-4F67-4B9D-8A36-B492D1C7FE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2B2F5C-360B-492C-BA64-412E782EF7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2E242-1C65-4436-A233-EB608481F2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00F50-EB93-4795-817B-B0E517FDC5B6}"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5ABF0-B683-43AC-8231-728D590F39FB}"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hyperlink" Target="http://education.ti.com/sites/US/downloads/pdf/Research_Note_3_frequent_access.pdf" TargetMode="External"/><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education.ti.com/sites/US/downloads/pdf/research_heller_curtis.pdf" TargetMode="External"/><Relationship Id="rId2" Type="http://schemas.openxmlformats.org/officeDocument/2006/relationships/hyperlink" Target="http://education.ti.com/sites/US/downloads/pdf/research_heller_curtis.pdf" TargetMode="External"/><Relationship Id="rId3" Type="http://schemas.openxmlformats.org/officeDocument/2006/relationships/hyperlink" Target="http://education.ti.com/sites/US/downloads/pdf/research_heller_curtis.pdf" TargetMode="External"/><Relationship Id="rId4" Type="http://schemas.openxmlformats.org/officeDocument/2006/relationships/hyperlink" Target="http://education.ti.com/sites/US/downloads/pdf/research_heller_curtis.pdf" TargetMode="External"/><Relationship Id="rId5" Type="http://schemas.openxmlformats.org/officeDocument/2006/relationships/hyperlink" Target="http://education.ti.com/sites/US/downloads/pdf/research_heller_curtis.pdf" TargetMode="Externa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533160" y="12949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pic>
        <p:nvPicPr>
          <p:cNvPr id="93" name="" descr=""/>
          <p:cNvPicPr/>
          <p:nvPr/>
        </p:nvPicPr>
        <p:blipFill>
          <a:blip r:embed="rId1"/>
          <a:stretch/>
        </p:blipFill>
        <p:spPr>
          <a:xfrm>
            <a:off x="6705720" y="3809880"/>
            <a:ext cx="1428480" cy="2457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14"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8"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20"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2"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24"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5"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8"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0"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2"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u="sng">
                <a:solidFill>
                  <a:srgbClr val="999933"/>
                </a:solidFill>
                <a:uFillTx/>
                <a:latin typeface="Arial"/>
                <a:hlinkClick r:id="rId2"/>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3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1905120" y="1905120"/>
            <a:ext cx="5105160" cy="3828960"/>
          </a:xfrm>
          <a:prstGeom prst="rect">
            <a:avLst/>
          </a:prstGeom>
          <a:ln w="0">
            <a:noFill/>
          </a:ln>
        </p:spPr>
      </p:pic>
      <p:sp>
        <p:nvSpPr>
          <p:cNvPr id="95" name=""/>
          <p:cNvSpPr/>
          <p:nvPr/>
        </p:nvSpPr>
        <p:spPr>
          <a:xfrm>
            <a:off x="0" y="0"/>
            <a:ext cx="9144000" cy="129852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he Diffusion of Innovation The graphing Calculator Project</a:t>
            </a:r>
            <a:endParaRPr b="0" lang="en-US" sz="4000" spc="-1" strike="noStrike">
              <a:solidFill>
                <a:srgbClr val="292929"/>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145999" fill="hold"/>
                                        <p:tgtEl>
                                          <p:spTgt spid="94"/>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94"/>
                    </p:tgtEl>
                  </p:cond>
                </p:stCondLst>
                <p:childTnLst>
                  <p:par>
                    <p:cTn id="8" fill="hold">
                      <p:stCondLst>
                        <p:cond evt="onClick">
                          <p:tgtEl>
                            <p:spTgt spid="94"/>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Heller</a:t>
            </a:r>
            <a:r>
              <a:rPr b="0" lang="en-US" sz="2400" spc="-1" strike="noStrike" u="sng">
                <a:solidFill>
                  <a:srgbClr val="999933"/>
                </a:solidFill>
                <a:uFillTx/>
                <a:latin typeface="Arial"/>
                <a:hlinkClick r:id="rId4"/>
              </a:rPr>
              <a:t>, Curtis et al. 2005)</a:t>
            </a:r>
            <a:r>
              <a:rPr b="0" lang="en-US" sz="2400" spc="-1" strike="noStrike" u="sng">
                <a:solidFill>
                  <a:srgbClr val="999933"/>
                </a:solidFill>
                <a:uFillTx/>
                <a:latin typeface="Arial"/>
                <a:hlinkClick r:id="rId5"/>
              </a:rPr>
              <a:t> </a:t>
            </a:r>
            <a:endParaRPr b="0" lang="en-US" sz="24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4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4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4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50"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52"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54" name="PlaceHolder 2"/>
          <p:cNvSpPr>
            <a:spLocks noGrp="1"/>
          </p:cNvSpPr>
          <p:nvPr>
            <p:ph/>
          </p:nvPr>
        </p:nvSpPr>
        <p:spPr>
          <a:xfrm>
            <a:off x="609120" y="1752120"/>
            <a:ext cx="7620120" cy="44197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ate of Adop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hird widely-used diffusion theory discussed by Rogers (1995) is the theory of Rate of Adoption. Rate of Adoption theory states that innovations are diffused over time in a pattern that resembles an s-shaped curve. Rate of Adoption theorizes that an innovation goes through a period of slow, gradual growth before experiencing a period of relatively dramatic and rapid growth. An example of how rate of adoption might typically be represented by an s-curve is shown in Figure 1 below ( In this case the use of graphing calculator in High schools in Texas). The theory also states that following the period of rapid growth, the innovation's rate of adoption will gradually stabilize and eventually decline.  As can been seen in this graph, it is apparent all school in Texas now use graphing calculator as the graph has peaked and now tends to run horizontally attaining the maximum and maintaining it. (Critical mass)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7"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pic>
        <p:nvPicPr>
          <p:cNvPr id="98" name="" descr=""/>
          <p:cNvPicPr/>
          <p:nvPr/>
        </p:nvPicPr>
        <p:blipFill>
          <a:blip r:embed="rId1"/>
          <a:stretch/>
        </p:blipFill>
        <p:spPr>
          <a:xfrm>
            <a:off x="6705720" y="3809880"/>
            <a:ext cx="1428480" cy="2457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able of values</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ear                              Percentage of School using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Graphing Calculator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0                                             1</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5                                             3</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0                                            1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5                                            50</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0                                            65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5                                            8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0                                            98</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5                                            9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14400" y="152280"/>
            <a:ext cx="69343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urve Representing Rate of Adoption of Graphing          Calculator In Texas High Schools (1970 -2005)</a:t>
            </a:r>
            <a:endParaRPr b="0" lang="en-US" sz="2000" spc="-1" strike="noStrike">
              <a:solidFill>
                <a:srgbClr val="000000"/>
              </a:solidFill>
              <a:latin typeface="Arial"/>
            </a:endParaRPr>
          </a:p>
        </p:txBody>
      </p:sp>
      <p:sp>
        <p:nvSpPr>
          <p:cNvPr id="158" name="PlaceHolder 2"/>
          <p:cNvSpPr>
            <a:spLocks noGrp="1"/>
          </p:cNvSpPr>
          <p:nvPr>
            <p:ph/>
          </p:nvPr>
        </p:nvSpPr>
        <p:spPr>
          <a:xfrm>
            <a:off x="838080" y="1752480"/>
            <a:ext cx="766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59" name="" descr=""/>
          <p:cNvPicPr/>
          <p:nvPr/>
        </p:nvPicPr>
        <p:blipFill>
          <a:blip r:embed="rId1"/>
          <a:stretch/>
        </p:blipFill>
        <p:spPr>
          <a:xfrm>
            <a:off x="914400" y="1828800"/>
            <a:ext cx="5791320" cy="37512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61"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63"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1981080"/>
            <a:ext cx="72388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65" name="PlaceHolder 2"/>
          <p:cNvSpPr>
            <a:spLocks noGrp="1"/>
          </p:cNvSpPr>
          <p:nvPr>
            <p:ph/>
          </p:nvPr>
        </p:nvSpPr>
        <p:spPr>
          <a:xfrm>
            <a:off x="1517760" y="3657600"/>
            <a:ext cx="6524640" cy="213192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100"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102"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104"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6"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10"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9-02-17T20:44:11Z</dcterms:modified>
  <cp:revision>14</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